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75463" cy="9161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59D8-C786-4B95-BA40-FC569EF4D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A60B-5C56-4A93-9260-C7356A047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7163-7744-4681-B469-4BD9F67BD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0049-C341-45A8-982A-1B6680802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F8489-0B10-4E0B-B98F-247842DD6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BC555-1409-444C-8F8E-CDABA38CC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B5DD1-9716-4D5E-8322-59A325233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9243A-096F-4975-B495-6DF8D32F3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3AE3B-9BE1-4B31-A336-3499A676A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8A867-CC0C-4C49-8840-552EF379F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0F4FE-99D3-4F23-891F-FCEE6BC78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A2E3-E132-485B-91F9-765D96489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74C0F-9237-4354-87C9-766695A28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D926C-9DDE-4D3E-8EED-A5AEFBBF0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90D3D-DE90-408F-A7CC-D097229AB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9FC6B-81F2-41B4-9FD9-A529714AE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64ED9-3F3F-4863-84BE-3A20491C3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7216-8380-4739-B3C0-C255B8936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E183-8180-4A7B-9851-2D31D553D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4479-DC89-467F-923E-F5387ABA5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A383-42E1-4593-8096-CC3BE2DAB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B355-E5B7-44A7-B08A-D1355619D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2697-877D-4893-9721-3B4CF6176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4263-EA6E-4640-A001-61B7ED8FD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ARTHSEPA" descr=""/>
            <p:cNvPicPr/>
            <p:nvPr/>
          </p:nvPicPr>
          <p:blipFill>
            <a:blip r:embed="rId2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Arthsepa" descr=""/>
            <p:cNvPicPr/>
            <p:nvPr/>
          </p:nvPicPr>
          <p:blipFill>
            <a:blip r:embed="rId3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6000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e9ab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600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afa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6600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6600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33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33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660033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CA9C1-3582-4FE5-B4C4-7B3C877B4796}" type="slidenum">
              <a:rPr b="0" lang="en-US" sz="2400" spc="-1" strike="noStrike">
                <a:solidFill>
                  <a:srgbClr val="660033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ARTBANNA" descr=""/>
            <p:cNvPicPr/>
            <p:nvPr/>
          </p:nvPicPr>
          <p:blipFill>
            <a:blip r:embed="rId2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Arthsepa" descr=""/>
            <p:cNvPicPr/>
            <p:nvPr/>
          </p:nvPicPr>
          <p:blipFill>
            <a:blip r:embed="rId3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6000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33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33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660033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633A2-FAF4-4525-9A26-82AF9E73FEDE}" type="slidenum">
              <a:rPr b="0" lang="en-US" sz="2400" spc="-1" strike="noStrike">
                <a:solidFill>
                  <a:srgbClr val="660033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60009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60033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afa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660033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6600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660033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6600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60009"/>
                </a:solidFill>
                <a:latin typeface="Arial"/>
              </a:rPr>
              <a:t>Open Language Archives</a:t>
            </a:r>
            <a:endParaRPr b="0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295280" y="3492000"/>
            <a:ext cx="74930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Steven Bird, University of Pennsylvania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Gary Simons, SIL International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1A73C-9757-418E-815E-429C0D2C737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17520" y="719640"/>
            <a:ext cx="8445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60009"/>
                </a:solidFill>
                <a:latin typeface="Arial"/>
              </a:rPr>
              <a:t>Linguistic Data Consortium</a:t>
            </a:r>
            <a:endParaRPr b="0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Arial"/>
              </a:rPr>
              <a:t>Data for new language technologies: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e9ab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ASR, NLP, MT, IR, TREC, MUC, TDT, …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e9ab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~200 CD-ROM publications (largest 82 CDs)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e9ab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&gt;1 terabyte of audio data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Arial"/>
              </a:rPr>
              <a:t>E.g. SWITCHBOARD Corpus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e9ab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2400 transcribed telephone calls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e9ab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Distributed on 26 CDs (web is inappropriate)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e9ab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0033"/>
                </a:solidFill>
                <a:uFillTx/>
                <a:latin typeface="Arial"/>
              </a:rPr>
              <a:t>Published</a:t>
            </a: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, ISBN, distribution mechanism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F4EE-DD9E-4A91-8FC0-D80EB7C69A2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60009"/>
                </a:solidFill>
                <a:latin typeface="Arial"/>
              </a:rPr>
              <a:t>ACL Natural Language Software Repository</a:t>
            </a:r>
            <a:endParaRPr b="0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Hosted by the German Foundation for AI (DFKI)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Software metadata: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de9ab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Authors</a:t>
            </a: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de9ab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Functionality</a:t>
            </a: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de9ab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Linguistic datatype (e.g. lexicon)</a:t>
            </a: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de9ab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File format</a:t>
            </a: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de9ab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Operating system</a:t>
            </a: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de9ab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availability</a:t>
            </a: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de9ab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URL</a:t>
            </a: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938D-BED1-4AB0-9000-A46E0DB4E0E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60009"/>
                </a:solidFill>
                <a:latin typeface="Arial"/>
              </a:rPr>
              <a:t>Taking Stock: Resource Types</a:t>
            </a:r>
            <a:endParaRPr b="0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DATA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de9ab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Sound recording</a:t>
            </a: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de9ab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Shoebox of hand-written index cards</a:t>
            </a: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de9ab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Descriptive grammar</a:t>
            </a: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TOOLS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de9ab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Software for creating, storing, querying and viewing language data</a:t>
            </a: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de9ab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Formats for storage and interchange (e.g. TEI)</a:t>
            </a: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ADVICE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de9ab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Mailing list archives, FAQs</a:t>
            </a: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FDAE-5217-4CDD-A35C-6DEA56E77CA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60009"/>
                </a:solidFill>
                <a:latin typeface="Arial"/>
              </a:rPr>
              <a:t>Taking Stock: The Community</a:t>
            </a:r>
            <a:endParaRPr b="0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Linguists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&gt;13,000 members of LINGUIST</a:t>
            </a: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Ethnologue &gt;500,000 page hits / month</a:t>
            </a: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Engineers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~1,000 organizations which buy LDC resources</a:t>
            </a: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Language teachers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Archivists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Software developers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48EB-9F3A-4B3A-B894-7AB7EA47A64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60009"/>
                </a:solidFill>
                <a:latin typeface="Arial"/>
              </a:rPr>
              <a:t>Challenges</a:t>
            </a:r>
            <a:endParaRPr b="0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Endangered languages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e9ab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Preserving languages before they die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Endangered data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e9ab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Saving old recordings before they disintegrate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Best practices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e9ab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Creating new data using XML and Unicode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Finding aids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e9ab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Locating resources (mailing lists)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FC22-2618-4BD8-9F58-F3015D3F452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60009"/>
                </a:solidFill>
                <a:latin typeface="Arial"/>
              </a:rPr>
              <a:t>Finding Aids</a:t>
            </a:r>
            <a:endParaRPr b="0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Goal: “bringing like things together and differentiating among them” (Svenonius)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Traditional databases versus the web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e9ab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Metadata is coherent, but highly distributed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We need a middle ground: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e9ab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Bottom-up, distributed initiatives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e9ab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Consistent, centralized finding aids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A2AD-AA55-4495-9A22-C859AEC5CB8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60009"/>
                </a:solidFill>
                <a:latin typeface="Arial"/>
              </a:rPr>
              <a:t>Language Archives within the OAI</a:t>
            </a:r>
            <a:endParaRPr b="0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Specialist communities can define their own metadata format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Service providers can exploit the metadata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Philadelphia Workshop (December 2000)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linguists, anthropologists, archivists, engineers, funding agencies, publishers</a:t>
            </a: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North America, South America, Europe, Middle-East, Africa, Asia, Australia</a:t>
            </a: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Commitment to implement OAI</a:t>
            </a: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74C2-4945-4D03-B50C-F606A1BF6F0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53211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60009"/>
                </a:solidFill>
                <a:latin typeface="Arial"/>
              </a:rPr>
              <a:t>Structure of OLAC</a:t>
            </a:r>
            <a:endParaRPr b="0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Three groups: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e9ab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Advisory board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e9ab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Member archives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e9ab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Participating data providers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Three phases: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e9ab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Alpha test [Dec 2000]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e9ab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Pilot [Fall 2001]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e9ab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Operational [Fall 2002]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pic>
        <p:nvPicPr>
          <p:cNvPr id="140" name="olac200" descr=""/>
          <p:cNvPicPr/>
          <p:nvPr/>
        </p:nvPicPr>
        <p:blipFill>
          <a:blip r:embed="rId1"/>
          <a:stretch/>
        </p:blipFill>
        <p:spPr>
          <a:xfrm>
            <a:off x="6324480" y="304920"/>
            <a:ext cx="2286000" cy="160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A78D-7190-45AB-A842-A91B08AEB27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60009"/>
                </a:solidFill>
                <a:latin typeface="Arial"/>
              </a:rPr>
              <a:t>Primary Service Provider</a:t>
            </a:r>
            <a:endParaRPr b="0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886200" y="1941480"/>
            <a:ext cx="4651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Eastern Michigan Univ</a:t>
            </a:r>
            <a:br>
              <a:rPr sz="3200"/>
            </a:b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&amp; Wayne State Univ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Funded by NSF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33"/>
                </a:solidFill>
                <a:latin typeface="Arial"/>
              </a:rPr>
              <a:t>&gt;13,000 members</a:t>
            </a:r>
            <a:endParaRPr b="0" lang="en-US" sz="3600" spc="-1" strike="noStrike">
              <a:solidFill>
                <a:srgbClr val="660033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33"/>
                </a:solidFill>
                <a:latin typeface="Arial"/>
              </a:rPr>
              <a:t>Complete union catalog</a:t>
            </a:r>
            <a:endParaRPr b="0" lang="en-US" sz="3600" spc="-1" strike="noStrike">
              <a:solidFill>
                <a:srgbClr val="660033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pic>
        <p:nvPicPr>
          <p:cNvPr id="143" name="linguist" descr=""/>
          <p:cNvPicPr/>
          <p:nvPr/>
        </p:nvPicPr>
        <p:blipFill>
          <a:blip r:embed="rId1"/>
          <a:stretch/>
        </p:blipFill>
        <p:spPr>
          <a:xfrm>
            <a:off x="609480" y="2514600"/>
            <a:ext cx="2629080" cy="2629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1430-0221-4F71-9950-AAF4064D382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60009"/>
                </a:solidFill>
                <a:latin typeface="Arial"/>
              </a:rPr>
              <a:t>A Community defined by its metadata</a:t>
            </a:r>
            <a:endParaRPr b="0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OPEN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e9ab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Rights.openness</a:t>
            </a: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e9ab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Format.openness</a:t>
            </a: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LANGUAGE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e9ab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Encoding scheme: RFC 1766</a:t>
            </a: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e9ab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Subject.language</a:t>
            </a: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ARCHIVES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e9ab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Type.data</a:t>
            </a: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e9ab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Type.functionality</a:t>
            </a: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4131-EF39-46FB-8B18-FC7B8BA7F24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560" y="60696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60009"/>
                </a:solidFill>
                <a:latin typeface="Arial"/>
              </a:rPr>
              <a:t>The World’s Languages</a:t>
            </a:r>
            <a:endParaRPr b="0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pic>
        <p:nvPicPr>
          <p:cNvPr id="91" name="lang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8150040" cy="500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94A7-11E3-4F46-8ADA-7AB5C3CABEE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60009"/>
                </a:solidFill>
                <a:latin typeface="Arial"/>
              </a:rPr>
              <a:t>Language Identification</a:t>
            </a:r>
            <a:endParaRPr b="0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Existing standards (ISO 639, RFC 1766)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e9ab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incomplete: 7% coverage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e9ab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inconsistent: e.g. Quechua, Bantu (other)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e9ab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Undocumented: only gives a name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Issues to be addressed: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e9ab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Impossible to create a static inventory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e9ab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Multiple names for a language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E.g. ANLC: </a:t>
            </a:r>
            <a:r>
              <a:rPr b="0" lang="en-US" sz="2400" spc="-1" strike="noStrike" u="sng">
                <a:solidFill>
                  <a:srgbClr val="660033"/>
                </a:solidFill>
                <a:uFillTx/>
                <a:latin typeface="Arial"/>
              </a:rPr>
              <a:t>Gwich’in</a:t>
            </a: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 versus </a:t>
            </a:r>
            <a:r>
              <a:rPr b="0" lang="en-US" sz="2400" spc="-1" strike="noStrike" u="sng">
                <a:solidFill>
                  <a:srgbClr val="660033"/>
                </a:solidFill>
                <a:uFillTx/>
                <a:latin typeface="Arial"/>
              </a:rPr>
              <a:t>Kutchin</a:t>
            </a: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702F-67CF-466B-862E-86A5D54AA66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4920" y="759600"/>
            <a:ext cx="6046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60009"/>
                </a:solidFill>
                <a:latin typeface="Arial"/>
              </a:rPr>
              <a:t>SIL Ethnologue</a:t>
            </a:r>
            <a:endParaRPr b="0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The only complete language identification scheme openly available on the web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For each of 6,800 languages: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e9ab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Language name and variants, 3-letter code</a:t>
            </a: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e9ab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Population, location</a:t>
            </a: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e9ab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Linguistic classification</a:t>
            </a: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e9ab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Dialects, alternative names for dialects</a:t>
            </a: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e9ab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Notes on language use and available literature</a:t>
            </a: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</p:txBody>
      </p:sp>
      <p:pic>
        <p:nvPicPr>
          <p:cNvPr id="150" name="sil" descr=""/>
          <p:cNvPicPr/>
          <p:nvPr/>
        </p:nvPicPr>
        <p:blipFill>
          <a:blip r:embed="rId1"/>
          <a:stretch/>
        </p:blipFill>
        <p:spPr>
          <a:xfrm>
            <a:off x="6781680" y="762120"/>
            <a:ext cx="743040" cy="74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9AB3-2119-4342-9962-FEA3750A538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60009"/>
                </a:solidFill>
                <a:latin typeface="Arial"/>
              </a:rPr>
              <a:t>Progress on Data Providers</a:t>
            </a:r>
            <a:endParaRPr b="0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Linguistic Data Consortium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European Language Resources Assocation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German Foundation for AI (DFKI)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SIL International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Perseus Project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Alaska Native Language Center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LACITO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CBOLD: Comparative Bantu Online Lexical Database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4846-BCDA-44BD-9586-C781FD495E4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60009"/>
                </a:solidFill>
                <a:latin typeface="Arial"/>
              </a:rPr>
              <a:t>LDC Prototype Service Provider</a:t>
            </a:r>
            <a:endParaRPr b="0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Harvests data from LDC, ELRA, DFKI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Query for “language=Bulgarian”: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457200" y="3124080"/>
          <a:ext cx="8077320" cy="3011760"/>
        </p:xfrm>
        <a:graphic>
          <a:graphicData uri="http://schemas.openxmlformats.org/drawingml/2006/table">
            <a:tbl>
              <a:tblPr/>
              <a:tblGrid>
                <a:gridCol w="2209680"/>
                <a:gridCol w="5867640"/>
              </a:tblGrid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660033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oai:ldc:LDC95T5</a:t>
                      </a:r>
                      <a:endParaRPr b="0" lang="en-US" sz="2000" spc="-1" strike="noStrike">
                        <a:solidFill>
                          <a:srgbClr val="66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660033"/>
                      </a:solidFill>
                    </a:lnR>
                    <a:lnT>
                      <a:noFill/>
                    </a:lnT>
                    <a:lnB w="5760">
                      <a:solidFill>
                        <a:srgbClr val="66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ECI Multilingual Text</a:t>
                      </a:r>
                      <a:endParaRPr b="0" lang="en-US" sz="2000" spc="-1" strike="noStrike">
                        <a:solidFill>
                          <a:srgbClr val="660033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Lang: Albanian, </a:t>
                      </a:r>
                      <a:r>
                        <a:rPr b="1" lang="en-US" sz="2000" spc="-1" strike="noStrike" u="sng">
                          <a:solidFill>
                            <a:srgbClr val="660033"/>
                          </a:solidFill>
                          <a:uFillTx/>
                          <a:latin typeface="Arial"/>
                        </a:rPr>
                        <a:t>Bulgarian</a:t>
                      </a:r>
                      <a:r>
                        <a:rPr b="0" lang="en-US" sz="20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, Chinese, Czech, …</a:t>
                      </a:r>
                      <a:endParaRPr b="0" lang="en-US" sz="2000" spc="-1" strike="noStrike">
                        <a:solidFill>
                          <a:srgbClr val="660033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Applications: IR, MT, LM</a:t>
                      </a:r>
                      <a:endParaRPr b="0" lang="en-US" sz="2000" spc="-1" strike="noStrike">
                        <a:solidFill>
                          <a:srgbClr val="66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0033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660033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660033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oai:elra:L0030</a:t>
                      </a:r>
                      <a:endParaRPr b="0" lang="en-US" sz="2000" spc="-1" strike="noStrike">
                        <a:solidFill>
                          <a:srgbClr val="66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660033"/>
                      </a:solidFill>
                    </a:lnR>
                    <a:lnT w="5760">
                      <a:solidFill>
                        <a:srgbClr val="660033"/>
                      </a:solidFill>
                    </a:lnT>
                    <a:lnB w="5760">
                      <a:solidFill>
                        <a:srgbClr val="66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Bulgarian Morphological Dictionary</a:t>
                      </a:r>
                      <a:endParaRPr b="0" lang="en-US" sz="2000" spc="-1" strike="noStrike">
                        <a:solidFill>
                          <a:srgbClr val="660033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Lang: </a:t>
                      </a:r>
                      <a:r>
                        <a:rPr b="1" lang="en-US" sz="2000" spc="-1" strike="noStrike" u="sng">
                          <a:solidFill>
                            <a:srgbClr val="660033"/>
                          </a:solidFill>
                          <a:uFillTx/>
                          <a:latin typeface="Arial"/>
                        </a:rPr>
                        <a:t>Bulgarian</a:t>
                      </a:r>
                      <a:endParaRPr b="0" lang="en-US" sz="2000" spc="-1" strike="noStrike">
                        <a:solidFill>
                          <a:srgbClr val="660033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67,500 entries, 242 inflectional types, …</a:t>
                      </a:r>
                      <a:endParaRPr b="0" lang="en-US" sz="2000" spc="-1" strike="noStrike">
                        <a:solidFill>
                          <a:srgbClr val="66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0033"/>
                      </a:solidFill>
                    </a:lnL>
                    <a:lnR>
                      <a:noFill/>
                    </a:lnR>
                    <a:lnT w="5760">
                      <a:solidFill>
                        <a:srgbClr val="660033"/>
                      </a:solidFill>
                    </a:lnT>
                    <a:lnB w="5760">
                      <a:solidFill>
                        <a:srgbClr val="660033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oai:dfki:KPML</a:t>
                      </a:r>
                      <a:endParaRPr b="0" lang="en-US" sz="2000" spc="-1" strike="noStrike">
                        <a:solidFill>
                          <a:srgbClr val="66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660033"/>
                      </a:solidFill>
                    </a:lnR>
                    <a:lnT w="5760">
                      <a:solidFill>
                        <a:srgbClr val="660033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Grammar development workbench</a:t>
                      </a:r>
                      <a:endParaRPr b="0" lang="en-US" sz="2000" spc="-1" strike="noStrike">
                        <a:solidFill>
                          <a:srgbClr val="660033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Lang: Spanish, Russian, Japanese, </a:t>
                      </a:r>
                      <a:r>
                        <a:rPr b="1" lang="en-US" sz="2000" spc="-1" strike="noStrike" u="sng">
                          <a:solidFill>
                            <a:srgbClr val="660033"/>
                          </a:solidFill>
                          <a:uFillTx/>
                          <a:latin typeface="Arial"/>
                        </a:rPr>
                        <a:t>Bulgarian</a:t>
                      </a:r>
                      <a:r>
                        <a:rPr b="0" lang="en-US" sz="20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, …</a:t>
                      </a:r>
                      <a:endParaRPr b="0" lang="en-US" sz="2000" spc="-1" strike="noStrike">
                        <a:solidFill>
                          <a:srgbClr val="66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0033"/>
                      </a:solidFill>
                    </a:lnL>
                    <a:lnR>
                      <a:noFill/>
                    </a:lnR>
                    <a:lnT w="5760">
                      <a:solidFill>
                        <a:srgbClr val="660033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89D1-0AC4-4D14-8F98-9BD4D46F27B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60009"/>
                </a:solidFill>
                <a:latin typeface="Arial"/>
              </a:rPr>
              <a:t>Our Experience with the OAI</a:t>
            </a:r>
            <a:endParaRPr b="0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Experience of OLAC alpha testers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e9ab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Harvesting protocol</a:t>
            </a: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e9ab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Dublin Core</a:t>
            </a: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OAI support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e9ab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Specialized metadata</a:t>
            </a: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e9ab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OAI representative at our meeting (Michael Nelson)</a:t>
            </a: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e9ab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Solves our problem with cataloging distributed, dynamic resources</a:t>
            </a: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13ED-F0B5-48E0-82D8-B4336AD75B1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60009"/>
                </a:solidFill>
                <a:latin typeface="Arial"/>
              </a:rPr>
              <a:t>Challenges ahead…</a:t>
            </a:r>
            <a:endParaRPr b="0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Large legacy catalogs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e9ab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cleansing and exporting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e9ab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hierarchical collections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Overlap with other OAI groups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e9ab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e-prints &amp; digital museums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OAI as a springboard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e9ab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digitization of legacy data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e9ab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formats for access in perpetuity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787D-D4B7-427A-9EF1-408F5AEFD91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60009"/>
                </a:solidFill>
                <a:latin typeface="Arial"/>
              </a:rPr>
              <a:t>Countries with &gt;150 languages</a:t>
            </a:r>
            <a:endParaRPr b="0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2285640"/>
            <a:ext cx="402732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New Guinea:</a:t>
            </a: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823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Indonesia:</a:t>
            </a: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726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Nigeria:</a:t>
            </a: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505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India:</a:t>
            </a: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387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Mexico:</a:t>
            </a: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288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Cameroon:</a:t>
            </a: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279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495680" y="2285640"/>
            <a:ext cx="4029120" cy="36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Australia:</a:t>
            </a: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235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Congo (DRC):</a:t>
            </a: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218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China (PRC):</a:t>
            </a: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201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Brazil:</a:t>
            </a: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192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USA:</a:t>
            </a: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176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Philippines:</a:t>
            </a: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169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B633-D426-40BD-91F1-245782EF815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60009"/>
                </a:solidFill>
                <a:latin typeface="Arial"/>
              </a:rPr>
              <a:t>Major Language Archives</a:t>
            </a:r>
            <a:endParaRPr b="0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American Philosophical Society</a:t>
            </a: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Wordlists, texts, manuscripts, audio; 200 languages</a:t>
            </a:r>
            <a:endParaRPr b="0" lang="en-US" sz="2000" spc="-1" strike="noStrike">
              <a:solidFill>
                <a:srgbClr val="6600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National Anthropological Archives</a:t>
            </a: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manuscripts, field-notes, photographs, maps, video </a:t>
            </a:r>
            <a:endParaRPr b="0" lang="en-US" sz="2000" spc="-1" strike="noStrike">
              <a:solidFill>
                <a:srgbClr val="660033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1,300 recordings of myths, legends, stories, songs</a:t>
            </a:r>
            <a:endParaRPr b="0" lang="en-US" sz="2000" spc="-1" strike="noStrike">
              <a:solidFill>
                <a:srgbClr val="6600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Perseus Project</a:t>
            </a: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&gt;70 million words of Greek, Latin, English, Italian, German</a:t>
            </a:r>
            <a:endParaRPr b="0" lang="en-US" sz="2000" spc="-1" strike="noStrike">
              <a:solidFill>
                <a:srgbClr val="6600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Aboriginal Studies Electronic Data Archive</a:t>
            </a: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texts, dictionaries, grammars and teaching materials </a:t>
            </a:r>
            <a:endParaRPr b="0" lang="en-US" sz="2000" spc="-1" strike="noStrike">
              <a:solidFill>
                <a:srgbClr val="660033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300 Australian languages</a:t>
            </a:r>
            <a:endParaRPr b="0" lang="en-US" sz="2000" spc="-1" strike="noStrike">
              <a:solidFill>
                <a:srgbClr val="6600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BBDC-B9DE-407C-A623-B43F8552A05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04920" y="683640"/>
            <a:ext cx="8637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60009"/>
                </a:solidFill>
                <a:latin typeface="Arial"/>
              </a:rPr>
              <a:t>Major European Archives</a:t>
            </a:r>
            <a:endParaRPr b="0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1905120"/>
            <a:ext cx="8208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Germany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de9ab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IDS</a:t>
            </a: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: Instit</a:t>
            </a:r>
            <a:r>
              <a:rPr b="0" lang="en-US" sz="2400" spc="-1" strike="noStrike">
                <a:solidFill>
                  <a:srgbClr val="660033"/>
                </a:solidFill>
                <a:latin typeface="Arial"/>
                <a:ea typeface="Arial"/>
              </a:rPr>
              <a:t>ü</a:t>
            </a: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t f</a:t>
            </a:r>
            <a:r>
              <a:rPr b="0" lang="en-US" sz="2400" spc="-1" strike="noStrike">
                <a:solidFill>
                  <a:srgbClr val="660033"/>
                </a:solidFill>
                <a:latin typeface="Arial"/>
                <a:ea typeface="Arial"/>
              </a:rPr>
              <a:t>ü</a:t>
            </a: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r Deutsche Sprache (Mannheim)</a:t>
            </a: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de9ab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BAS</a:t>
            </a: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: Bavarian Archive of Speech (Munich)</a:t>
            </a: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France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de9ab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INALF</a:t>
            </a: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: Institute National </a:t>
            </a:r>
            <a:r>
              <a:rPr b="0" lang="en-US" sz="2400" spc="-1" strike="noStrike">
                <a:solidFill>
                  <a:srgbClr val="660033"/>
                </a:solidFill>
                <a:latin typeface="Arial"/>
                <a:ea typeface="Arial"/>
              </a:rPr>
              <a:t>à</a:t>
            </a: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 Langue Fran</a:t>
            </a:r>
            <a:r>
              <a:rPr b="0" lang="en-US" sz="2400" spc="-1" strike="noStrike">
                <a:solidFill>
                  <a:srgbClr val="660033"/>
                </a:solidFill>
                <a:latin typeface="Arial"/>
                <a:ea typeface="Arial"/>
              </a:rPr>
              <a:t>ç</a:t>
            </a: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ais (Paris)</a:t>
            </a: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de9ab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LACITO</a:t>
            </a: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: Langues et Cultures </a:t>
            </a:r>
            <a:r>
              <a:rPr b="0" lang="en-US" sz="2400" spc="-1" strike="noStrike">
                <a:solidFill>
                  <a:srgbClr val="660033"/>
                </a:solidFill>
                <a:latin typeface="Arial"/>
                <a:ea typeface="Arial"/>
              </a:rPr>
              <a:t>à</a:t>
            </a: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 Tradition Orale (Paris)</a:t>
            </a: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United Kingdom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de9ab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OTA</a:t>
            </a: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: Oxford Text Archive (Oxford)</a:t>
            </a: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Many others …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B534-4BB0-4D94-AA79-303A37BBDFB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60009"/>
                </a:solidFill>
                <a:latin typeface="Arial"/>
              </a:rPr>
              <a:t>Alaska Native Language Center</a:t>
            </a:r>
            <a:endParaRPr b="0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495360" y="6064200"/>
          <a:ext cx="261720" cy="1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360" y="6064200"/>
                    <a:ext cx="261720" cy="1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08280" y="1941480"/>
            <a:ext cx="4028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Founded in 1972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20 native languages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10,000 documents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e9ab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Texts</a:t>
            </a: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e9ab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Ethnographies</a:t>
            </a: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e9ab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Place names</a:t>
            </a: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e9ab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Lexicons</a:t>
            </a: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3,000 recordings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pic>
        <p:nvPicPr>
          <p:cNvPr id="103" name="anlc" descr=""/>
          <p:cNvPicPr/>
          <p:nvPr/>
        </p:nvPicPr>
        <p:blipFill>
          <a:blip r:embed="rId3"/>
          <a:srcRect l="22670" t="0" r="5337" b="0"/>
          <a:stretch/>
        </p:blipFill>
        <p:spPr>
          <a:xfrm>
            <a:off x="228600" y="2286000"/>
            <a:ext cx="4114800" cy="3646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EACA-38B1-4B7F-BE23-FE77F23BEC2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560" y="68328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60009"/>
                </a:solidFill>
                <a:latin typeface="Arial"/>
              </a:rPr>
              <a:t>An ANLC Record</a:t>
            </a:r>
            <a:endParaRPr b="0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304920" y="1944720"/>
          <a:ext cx="8208720" cy="4089240"/>
        </p:xfrm>
        <a:graphic>
          <a:graphicData uri="http://schemas.openxmlformats.org/drawingml/2006/table">
            <a:tbl>
              <a:tblPr/>
              <a:tblGrid>
                <a:gridCol w="2262240"/>
                <a:gridCol w="5946480"/>
              </a:tblGrid>
              <a:tr h="58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Title:</a:t>
                      </a:r>
                      <a:endParaRPr b="0" lang="en-US" sz="2800" spc="-1" strike="noStrike">
                        <a:solidFill>
                          <a:srgbClr val="66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0033"/>
                      </a:solidFill>
                    </a:lnL>
                    <a:lnR w="5760">
                      <a:solidFill>
                        <a:srgbClr val="660033"/>
                      </a:solidFill>
                    </a:lnR>
                    <a:lnT w="13680">
                      <a:solidFill>
                        <a:srgbClr val="660033"/>
                      </a:solidFill>
                    </a:lnT>
                    <a:lnB w="5760">
                      <a:solidFill>
                        <a:srgbClr val="66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Gwich’in Wordlist</a:t>
                      </a:r>
                      <a:endParaRPr b="0" lang="en-US" sz="2800" spc="-1" strike="noStrike">
                        <a:solidFill>
                          <a:srgbClr val="66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0033"/>
                      </a:solidFill>
                    </a:lnL>
                    <a:lnR w="13680">
                      <a:solidFill>
                        <a:srgbClr val="660033"/>
                      </a:solidFill>
                    </a:lnR>
                    <a:lnT w="13680">
                      <a:solidFill>
                        <a:srgbClr val="660033"/>
                      </a:solidFill>
                    </a:lnT>
                    <a:lnB w="5760">
                      <a:solidFill>
                        <a:srgbClr val="660033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Author:</a:t>
                      </a:r>
                      <a:endParaRPr b="0" lang="en-US" sz="2800" spc="-1" strike="noStrike">
                        <a:solidFill>
                          <a:srgbClr val="66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0033"/>
                      </a:solidFill>
                    </a:lnL>
                    <a:lnR w="5760">
                      <a:solidFill>
                        <a:srgbClr val="660033"/>
                      </a:solidFill>
                    </a:lnR>
                    <a:lnT w="5760">
                      <a:solidFill>
                        <a:srgbClr val="660033"/>
                      </a:solidFill>
                    </a:lnT>
                    <a:lnB w="5760">
                      <a:solidFill>
                        <a:srgbClr val="66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Zimmerman, Herbert</a:t>
                      </a:r>
                      <a:endParaRPr b="0" lang="en-US" sz="2800" spc="-1" strike="noStrike">
                        <a:solidFill>
                          <a:srgbClr val="66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0033"/>
                      </a:solidFill>
                    </a:lnL>
                    <a:lnR w="13680">
                      <a:solidFill>
                        <a:srgbClr val="660033"/>
                      </a:solidFill>
                    </a:lnR>
                    <a:lnT w="5760">
                      <a:solidFill>
                        <a:srgbClr val="660033"/>
                      </a:solidFill>
                    </a:lnT>
                    <a:lnB w="5760">
                      <a:solidFill>
                        <a:srgbClr val="660033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Date:</a:t>
                      </a:r>
                      <a:endParaRPr b="0" lang="en-US" sz="2800" spc="-1" strike="noStrike">
                        <a:solidFill>
                          <a:srgbClr val="66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0033"/>
                      </a:solidFill>
                    </a:lnL>
                    <a:lnR w="5760">
                      <a:solidFill>
                        <a:srgbClr val="660033"/>
                      </a:solidFill>
                    </a:lnR>
                    <a:lnT w="5760">
                      <a:solidFill>
                        <a:srgbClr val="660033"/>
                      </a:solidFill>
                    </a:lnT>
                    <a:lnB w="5760">
                      <a:solidFill>
                        <a:srgbClr val="66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1959</a:t>
                      </a:r>
                      <a:endParaRPr b="0" lang="en-US" sz="2800" spc="-1" strike="noStrike">
                        <a:solidFill>
                          <a:srgbClr val="66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0033"/>
                      </a:solidFill>
                    </a:lnL>
                    <a:lnR w="13680">
                      <a:solidFill>
                        <a:srgbClr val="660033"/>
                      </a:solidFill>
                    </a:lnR>
                    <a:lnT w="5760">
                      <a:solidFill>
                        <a:srgbClr val="660033"/>
                      </a:solidFill>
                    </a:lnT>
                    <a:lnB w="5760">
                      <a:solidFill>
                        <a:srgbClr val="660033"/>
                      </a:solidFill>
                    </a:lnB>
                    <a:noFill/>
                  </a:tcPr>
                </a:tc>
              </a:tr>
              <a:tr h="58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Language:</a:t>
                      </a:r>
                      <a:endParaRPr b="0" lang="en-US" sz="2800" spc="-1" strike="noStrike">
                        <a:solidFill>
                          <a:srgbClr val="66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0033"/>
                      </a:solidFill>
                    </a:lnL>
                    <a:lnR w="5760">
                      <a:solidFill>
                        <a:srgbClr val="660033"/>
                      </a:solidFill>
                    </a:lnR>
                    <a:lnT w="5760">
                      <a:solidFill>
                        <a:srgbClr val="660033"/>
                      </a:solidFill>
                    </a:lnT>
                    <a:lnB w="5760">
                      <a:solidFill>
                        <a:srgbClr val="66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Gwich’in</a:t>
                      </a:r>
                      <a:endParaRPr b="0" lang="en-US" sz="2800" spc="-1" strike="noStrike">
                        <a:solidFill>
                          <a:srgbClr val="66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0033"/>
                      </a:solidFill>
                    </a:lnL>
                    <a:lnR w="13680">
                      <a:solidFill>
                        <a:srgbClr val="660033"/>
                      </a:solidFill>
                    </a:lnR>
                    <a:lnT w="5760">
                      <a:solidFill>
                        <a:srgbClr val="660033"/>
                      </a:solidFill>
                    </a:lnT>
                    <a:lnB w="5760">
                      <a:solidFill>
                        <a:srgbClr val="660033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Format:</a:t>
                      </a:r>
                      <a:endParaRPr b="0" lang="en-US" sz="2800" spc="-1" strike="noStrike">
                        <a:solidFill>
                          <a:srgbClr val="66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0033"/>
                      </a:solidFill>
                    </a:lnL>
                    <a:lnR w="5760">
                      <a:solidFill>
                        <a:srgbClr val="660033"/>
                      </a:solidFill>
                    </a:lnR>
                    <a:lnT w="5760">
                      <a:solidFill>
                        <a:srgbClr val="660033"/>
                      </a:solidFill>
                    </a:lnT>
                    <a:lnB w="5760">
                      <a:solidFill>
                        <a:srgbClr val="66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Non-digital</a:t>
                      </a:r>
                      <a:endParaRPr b="0" lang="en-US" sz="2800" spc="-1" strike="noStrike">
                        <a:solidFill>
                          <a:srgbClr val="66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0033"/>
                      </a:solidFill>
                    </a:lnL>
                    <a:lnR w="13680">
                      <a:solidFill>
                        <a:srgbClr val="660033"/>
                      </a:solidFill>
                    </a:lnR>
                    <a:lnT w="5760">
                      <a:solidFill>
                        <a:srgbClr val="660033"/>
                      </a:solidFill>
                    </a:lnT>
                    <a:lnB w="5760">
                      <a:solidFill>
                        <a:srgbClr val="660033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Description:</a:t>
                      </a:r>
                      <a:endParaRPr b="0" lang="en-US" sz="2800" spc="-1" strike="noStrike">
                        <a:solidFill>
                          <a:srgbClr val="66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0033"/>
                      </a:solidFill>
                    </a:lnL>
                    <a:lnR w="5760">
                      <a:solidFill>
                        <a:srgbClr val="660033"/>
                      </a:solidFill>
                    </a:lnR>
                    <a:lnT w="5760">
                      <a:solidFill>
                        <a:srgbClr val="660033"/>
                      </a:solidFill>
                    </a:lnT>
                    <a:lnB w="5760">
                      <a:solidFill>
                        <a:srgbClr val="66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MS, 75pp</a:t>
                      </a:r>
                      <a:endParaRPr b="0" lang="en-US" sz="2800" spc="-1" strike="noStrike">
                        <a:solidFill>
                          <a:srgbClr val="66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0033"/>
                      </a:solidFill>
                    </a:lnL>
                    <a:lnR w="13680">
                      <a:solidFill>
                        <a:srgbClr val="660033"/>
                      </a:solidFill>
                    </a:lnR>
                    <a:lnT w="5760">
                      <a:solidFill>
                        <a:srgbClr val="660033"/>
                      </a:solidFill>
                    </a:lnT>
                    <a:lnB w="5760">
                      <a:solidFill>
                        <a:srgbClr val="660033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Description:</a:t>
                      </a:r>
                      <a:endParaRPr b="0" lang="en-US" sz="2800" spc="-1" strike="noStrike">
                        <a:solidFill>
                          <a:srgbClr val="66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0033"/>
                      </a:solidFill>
                    </a:lnL>
                    <a:lnR w="5760">
                      <a:solidFill>
                        <a:srgbClr val="660033"/>
                      </a:solidFill>
                    </a:lnR>
                    <a:lnT w="5760">
                      <a:solidFill>
                        <a:srgbClr val="660033"/>
                      </a:solidFill>
                    </a:lnT>
                    <a:lnB w="13680">
                      <a:solidFill>
                        <a:srgbClr val="66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1400 items based on SIL schedule</a:t>
                      </a:r>
                      <a:endParaRPr b="0" lang="en-US" sz="2800" spc="-1" strike="noStrike">
                        <a:solidFill>
                          <a:srgbClr val="66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0033"/>
                      </a:solidFill>
                    </a:lnL>
                    <a:lnR w="13680">
                      <a:solidFill>
                        <a:srgbClr val="660033"/>
                      </a:solidFill>
                    </a:lnR>
                    <a:lnT w="5760">
                      <a:solidFill>
                        <a:srgbClr val="660033"/>
                      </a:solidFill>
                    </a:lnT>
                    <a:lnB w="13680">
                      <a:solidFill>
                        <a:srgbClr val="66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06" name=""/>
          <p:cNvGrpSpPr/>
          <p:nvPr/>
        </p:nvGrpSpPr>
        <p:grpSpPr>
          <a:xfrm>
            <a:off x="3962520" y="1981080"/>
            <a:ext cx="4647960" cy="533520"/>
            <a:chOff x="3962520" y="1981080"/>
            <a:chExt cx="4647960" cy="533520"/>
          </a:xfrm>
        </p:grpSpPr>
        <p:sp>
          <p:nvSpPr>
            <p:cNvPr id="107" name=""/>
            <p:cNvSpPr/>
            <p:nvPr/>
          </p:nvSpPr>
          <p:spPr>
            <a:xfrm>
              <a:off x="3962520" y="1981080"/>
              <a:ext cx="1676160" cy="533520"/>
            </a:xfrm>
            <a:prstGeom prst="ellipse">
              <a:avLst/>
            </a:prstGeom>
            <a:noFill/>
            <a:ln w="2556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33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5638680" y="2286000"/>
              <a:ext cx="533520" cy="1440"/>
            </a:xfrm>
            <a:prstGeom prst="line">
              <a:avLst/>
            </a:prstGeom>
            <a:ln w="25560">
              <a:solidFill>
                <a:srgbClr val="00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660033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095880" y="2057400"/>
              <a:ext cx="2514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99cc"/>
                  </a:solidFill>
                  <a:latin typeface="Arial"/>
                </a:rPr>
                <a:t>RESOURCE TYPE?</a:t>
              </a:r>
              <a:endParaRPr b="0" lang="en-US" sz="2000" spc="-1" strike="noStrike">
                <a:solidFill>
                  <a:srgbClr val="660033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2514600" y="3276720"/>
            <a:ext cx="4724280" cy="990360"/>
            <a:chOff x="2514600" y="3276720"/>
            <a:chExt cx="4724280" cy="990360"/>
          </a:xfrm>
        </p:grpSpPr>
        <p:sp>
          <p:nvSpPr>
            <p:cNvPr id="111" name=""/>
            <p:cNvSpPr/>
            <p:nvPr/>
          </p:nvSpPr>
          <p:spPr>
            <a:xfrm>
              <a:off x="2514600" y="3733920"/>
              <a:ext cx="1676520" cy="533160"/>
            </a:xfrm>
            <a:prstGeom prst="ellipse">
              <a:avLst/>
            </a:prstGeom>
            <a:noFill/>
            <a:ln w="2556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33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4038480" y="3505320"/>
              <a:ext cx="609840" cy="304560"/>
            </a:xfrm>
            <a:prstGeom prst="line">
              <a:avLst/>
            </a:prstGeom>
            <a:ln w="25560">
              <a:solidFill>
                <a:srgbClr val="00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33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648320" y="3276720"/>
              <a:ext cx="2590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99cc"/>
                  </a:solidFill>
                  <a:latin typeface="Arial"/>
                </a:rPr>
                <a:t>LANGUAGE NAME?</a:t>
              </a:r>
              <a:endParaRPr b="0" lang="en-US" sz="2000" spc="-1" strike="noStrike">
                <a:solidFill>
                  <a:srgbClr val="660033"/>
                </a:solidFill>
                <a:latin typeface="Arial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2438280" y="4343400"/>
            <a:ext cx="5486400" cy="533520"/>
            <a:chOff x="2438280" y="4343400"/>
            <a:chExt cx="5486400" cy="533520"/>
          </a:xfrm>
        </p:grpSpPr>
        <p:sp>
          <p:nvSpPr>
            <p:cNvPr id="115" name=""/>
            <p:cNvSpPr/>
            <p:nvPr/>
          </p:nvSpPr>
          <p:spPr>
            <a:xfrm>
              <a:off x="2438280" y="4343400"/>
              <a:ext cx="2286000" cy="533520"/>
            </a:xfrm>
            <a:prstGeom prst="ellipse">
              <a:avLst/>
            </a:prstGeom>
            <a:noFill/>
            <a:ln w="2556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33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>
              <a:off x="4723920" y="4648320"/>
              <a:ext cx="838440" cy="1440"/>
            </a:xfrm>
            <a:prstGeom prst="line">
              <a:avLst/>
            </a:prstGeom>
            <a:ln w="25560">
              <a:solidFill>
                <a:srgbClr val="00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660033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562720" y="4419720"/>
              <a:ext cx="2361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99cc"/>
                  </a:solidFill>
                  <a:latin typeface="Arial"/>
                </a:rPr>
                <a:t>AVAILABILITY?</a:t>
              </a:r>
              <a:endParaRPr b="0" lang="en-US" sz="2000" spc="-1" strike="noStrike">
                <a:solidFill>
                  <a:srgbClr val="660033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FE1C-9835-416A-BA64-E29C51A286B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60009"/>
                </a:solidFill>
                <a:latin typeface="Arial"/>
              </a:rPr>
              <a:t>American Indian Studies Research Institute, Indiana</a:t>
            </a:r>
            <a:endParaRPr b="0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85840" y="1981080"/>
            <a:ext cx="4724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Interactive language lessons for American Indian languages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Multimedia dictionaries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e9ab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audio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e9ab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photographic images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pic>
        <p:nvPicPr>
          <p:cNvPr id="120" name="pawnee" descr=""/>
          <p:cNvPicPr/>
          <p:nvPr/>
        </p:nvPicPr>
        <p:blipFill>
          <a:blip r:embed="rId1"/>
          <a:stretch/>
        </p:blipFill>
        <p:spPr>
          <a:xfrm>
            <a:off x="533520" y="2057400"/>
            <a:ext cx="2993760" cy="3611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E3F0-F8F7-4C50-BD84-EEC9316AA04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60009"/>
                </a:solidFill>
                <a:latin typeface="Arial"/>
              </a:rPr>
              <a:t>UC Berkeley Survey of Californian Languages</a:t>
            </a:r>
            <a:endParaRPr b="0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1640" y="1941480"/>
            <a:ext cx="396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90 languages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Field notes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750 cassettes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Catalog is an HTML document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Typical…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pic>
        <p:nvPicPr>
          <p:cNvPr id="123" name="ca-survey" descr=""/>
          <p:cNvPicPr/>
          <p:nvPr/>
        </p:nvPicPr>
        <p:blipFill>
          <a:blip r:embed="rId1"/>
          <a:stretch/>
        </p:blipFill>
        <p:spPr>
          <a:xfrm>
            <a:off x="304920" y="2133720"/>
            <a:ext cx="3840120" cy="3749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178F-3970-4D32-AD3F-1019FD04BB2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18T21:53:41Z</dcterms:created>
  <dc:creator>Steven Bird</dc:creator>
  <dc:description/>
  <dc:language>en-US</dc:language>
  <cp:lastModifiedBy>Steven Bird</cp:lastModifiedBy>
  <dcterms:modified xsi:type="dcterms:W3CDTF">2001-01-19T09:44:06Z</dcterms:modified>
  <cp:revision>42</cp:revision>
  <dc:subject/>
  <dc:title>Open Language Archives</dc:title>
</cp:coreProperties>
</file>